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42F5-FAF9-4955-8B40-AEAD53AB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D06-AC01-469E-A841-7D32BC70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A64B-F507-463B-8688-A281417A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383-2409-43FD-B4E0-6FED886B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B8B4-B057-4914-81A1-0E562DD8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152-E7D1-49B1-85FC-12CC49E3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043-5D02-431B-A644-857C7DCA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AD7-CAA1-4476-8F23-621D7B8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816-2161-4DBB-9A2D-DF12871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89C-B055-4AB8-89F4-DADF4132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3244-51BC-4D18-9688-D50F4281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4BB-86EC-4D87-AA80-394B8F50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CA0B-4031-4DBF-90A3-A7A7E9D57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5 days left</a:t>
            </a:r>
            <a:br>
              <a:rPr sz="4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not that we’re counting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st day for kids’ reports to be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Write&gt;check&gt;copy&gt;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Junior Ca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nsive 2.0 Day 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orning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" dur="1" fill="hold"/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Tu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ning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noon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(normal)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ior Car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" dur="1" fill="hold"/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2.0 Day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fternoon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nsive (normal) 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 recommendations to Si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xt week - Thur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to Ana Pérez by 11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s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ny Hoja de Asis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clic Hoja de Asistencias to Macar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5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ther stu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laries will be paid on 22nd D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tras to be collected in J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fice mov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table changes / New intensiv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8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Xmas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916280"/>
            <a:ext cx="77752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ave 12:15 -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tel NH Marques de Paradas (in front of Avenida 5 Cines cinema – Don’t be l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rive: Cortijo El Esparragal at about 13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3:00-14:00 – “Gymkhana”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nch, Secret Santa, free bar and mus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turn: - First bus: about 17:30-18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Second bus: about 19:00-19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" dur="1" fill="hold"/>
                                  <p:tgtEl>
                                    <p:spTgt spid="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0" dur="1" fill="hold"/>
                                  <p:tgtEl>
                                    <p:spTgt spid="5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bener reports on k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idy staff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ttendance up-to-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ibrary clear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H Conference (Mar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H Conf - Topic sign up 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ave a great Xmas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1-12-16T11:03:09Z</dcterms:modified>
  <cp:revision>119</cp:revision>
  <dc:subject/>
  <dc:title>Diapositiva 1</dc:title>
</cp:coreProperties>
</file>